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15C7-447A-41F7-9895-872FA3BB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2209-D48A-429F-84D8-FCBE5F96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339A0-93CB-42A4-84E8-D4E4DEDC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2A2B8-C07A-474B-A874-ED388EC8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52E42-1580-4401-962F-4D3C1F4C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A228DB-B27A-4E37-AA91-CC3BEBE1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066F1-2FC8-49CE-8C38-DF7413F2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9EF49-3AEC-46E2-A350-2F9B86B8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D06C8-9630-4BDB-A8F1-3E1E08F2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CADF7-5563-440D-9B27-C94E76165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A1F06-05FE-41A7-AA99-8ADF3CED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03EB5-08DC-4268-A54A-58912F13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C545-01BE-44DF-9650-22CC8F918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644B9-82F5-4D3A-BB4D-0AF171FE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D08DB-C81A-4A55-80EE-C92D2F13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A01C3-35D8-4970-BBD3-08D17AF5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FB080-E89A-42BC-8B10-B7C770D8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4BABB-D79C-47C1-9921-77D541B6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56996-2E9F-469A-B125-E3181CD7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F82E5-098E-46C4-8354-9FA276F3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1EA25-1964-4454-B8AB-4D57601F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805CA4-7AC0-428F-8DCA-C1F8A7C0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46A7E-0358-42BC-9004-EE6085FA4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E374-37D9-498C-AC4F-25BA17A1C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8E9F8-095A-449B-972E-D4F4BCDC8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A8474-492E-470C-8750-247BC3710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50E9B-71C1-4357-AD05-EF8703A3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5AF45-1F51-4952-A2C8-2E838157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C41DB-4574-4F57-8113-402B9D62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2CE26-E782-4D81-B5BB-14F52A61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E0ABA-DA4A-4515-99D9-161547EF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DDF14-BA32-4A92-8A30-6D42919B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516C4-65F5-4678-8265-38DE0389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D1C55-9E81-46BA-BE87-2D89A7B0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77C4-EF6D-41E1-A6DF-3726CEAEB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6FFE8-3F55-46BC-885A-5009F37B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59FEF-BAEF-414F-8D48-205FC37EB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6F650-4810-4A66-BDB5-E2F7CC2ED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D78CDB-0E2E-42E3-8DCF-00EA3634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DD552-55B6-40AC-B13C-8BE592A7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57AC6-CE28-44B0-A01A-168DE74E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60C79-EAA4-4D6A-846C-66344298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83FA14-24A0-4F73-9D76-87E68909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94A4F-0A64-4B88-8ADA-0672590F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30AE5E-5194-458C-B716-4E281452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1A31-682E-417B-9E55-6967F7A4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6D1FC-872F-48E3-B625-83EE2372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C216D-BCEE-4E52-AA16-E5FC57D9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C78985-E069-42E6-A10E-C017C4C2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3F3B30-4504-4F1A-B9BA-2AFE724B1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5562B-008A-496C-B0CC-3B4AB137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2502-0F57-418A-BA39-866B0D2B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67D0-BF1B-41A4-8302-9683DDCA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4FA1-79C3-4167-9F38-B6AD03AC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E8AE-14EA-4B02-80E3-ED165BE5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BB03-B662-42CE-9B51-D30537B3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0515-ADA7-4C54-8B05-E8C0963A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3704-43CA-43B0-A5D0-BC028C94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978A-1976-465B-AD4A-2F83D863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0969-4ED7-4C10-90A0-08C5E082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C2E9-FBED-467C-863F-9587D1E8B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32CE-0363-4C6D-B17D-956942073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B0BA4-C759-422A-86F7-E71CD919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9D4FE-A69E-4579-8D2B-8FF680B2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7AF63-D89B-408A-9FD1-D6D1BB68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11BC3-2A9E-4261-9120-E8914C63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73779-A2BE-465F-8E00-B787F784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E230-2D6F-4269-A00A-7A17FCA9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9B25B-D385-4635-98A8-F605A6CD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93E11-B714-4BFF-B635-505892E3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DFF30-AB71-4EA2-BEE0-47783FFA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E0F4B-B471-4891-A59F-7411A405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490A3-C3CF-492E-9460-289F35FB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F1346-7CE9-4BC3-AE95-5EB79DFD9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2A2B8-C54B-45AD-A978-E5BA1885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F8FEE-7690-44FE-BD82-99E8E931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49A78-EDAC-4921-9A94-4B92006E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FFCDF-2437-4618-947A-709E9CF8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55AF-552A-410E-8AA8-8255C0CB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F72B9-FC93-4E5B-B7A6-1996F576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6542F-2F36-4134-B77C-8B8B099A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67ED7-F7AC-439D-B5CD-64886247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879E1-B32F-4F1C-9382-B9EA5D03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5A6FE-19FF-4B83-BC85-27EC8355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8C3F3-89E9-4D48-9B38-3DFD0986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6C0CD-192E-4628-AC4E-49F310FC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D2E5B-CE28-4DD1-8EF6-F039DB5A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CE78B-A4FC-4FAB-9A85-439357E2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255E2-2266-4F7B-A0A9-24DBD6B6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34C9-02B6-4044-AE4E-CE4A4E26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98FD9-3D75-4C9A-B0A8-D3C24050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C72C0-7BF9-4FAA-B0D3-9E671AC8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C1186-5476-4516-94C6-E62253B2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CB37C-9F50-4DF6-9510-794BE897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1E55A-587E-4F91-BC15-2390D839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C3298-81DF-443A-9EE5-EF7C02E9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96CA2-53D8-4B90-92F4-E7F2D34D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C4CA4-12CC-4E60-8238-6F2B25BD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B5102-75A1-4742-ADC6-D57C9060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C84E4-AE38-4599-A46D-0EEDD8504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C847-FDC8-4F59-9697-0CD109FD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62DDF-6476-44C2-B24C-8C28DA45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8DDD7-08B1-4AFB-B14B-39E13E639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466F7-7C04-45C5-ABA4-4C5149BF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70FBB-F11C-4C78-9048-49B3325C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D88B9-6422-4B24-9595-FB722D86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45D1A-67D8-4606-B18B-5717E3F2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2BA20-97CE-4901-BCEC-9893DA86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CA70D-12A6-4048-A0AE-73C5C8E8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7442F-C32A-44B7-89B1-940544E6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77CB2-5EA7-4887-85B7-67F63E6F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B7F3-E450-4FDF-80A8-17D730FF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4503D-6CAD-4614-BC66-8A1B7193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9E04A-3068-464D-AA46-B9E410D8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25AA1-0773-4B7C-B484-5BF3454EC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22922-4D6F-4CF0-A8C6-8E5514583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DBC0F-3020-4AEC-89AD-A2ADA121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ADC59-D81B-4D58-833F-A92E259A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52B43-C481-4C87-985A-6EAB2057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C3D72-CA89-433A-962F-BC2952D9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65A17-0EA7-46DA-A019-F9950E26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B0E61-01BB-47A7-A785-57460571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1817-23B9-4C76-8C5D-C3CEEA69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564AE-8218-4D8D-8170-F5ECF4DA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F149F-ED39-4DE8-9373-88DCA7AE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6DEA0-194C-4D71-853D-5F17DEBF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3E388-56DF-4926-BE78-2D419FCE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7DE11-63F1-4D2D-BFC8-D57C168DC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DD4F8-3119-48C4-BD49-0A20E069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E2B93-76D9-463C-AFB6-6A0AF980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64A1A-28BB-4FD0-A1D0-A6AA7D77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AF482-71BF-4034-9943-8E9572E2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2815B-8724-4011-B0AE-DA4CAE4C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DD3D-BC5D-4C58-8167-DEB5BE99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DAE25-C7C4-4135-84A1-01DFB1C0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6E91B-7D37-49B1-9094-C1892777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311C1-46BF-44CB-975F-B8A4B7B3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C1D30-81D3-4A04-B549-7703F9F4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DC84C-4C3E-400F-ADB4-B7C94A6F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433B0-5482-49C8-BE9A-94737E73C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CA687-5D48-4A2D-80A6-B25A2C40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A35B4-66F3-45B2-AA63-BF1AF85E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0B6D4-9743-4F20-A256-457AC070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1FF13-164A-4E46-8183-52F1E993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356A-DD67-48CE-B280-95D9461247A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C344-05D5-4A36-9F90-668A79472F2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4640-149D-4445-87B0-4A944E238B5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243B-DFCE-4A5B-B10C-45F62BD296B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CA27-2176-4D48-A44E-A7F262FB037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575F-B74D-4B03-8F85-29DD0ECFC99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BCAE-5AB0-4DB2-8245-A978DD36577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2120-1DAF-45BD-B7A8-6B0AE807FCE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28BD-71D5-4A64-AEDB-9AE6350E7B9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FBA0-F60F-40C7-9A5E-BA9C97E6CBD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A590-10F9-47F8-BBC3-C52AED4081D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856B-7FF8-4218-84FB-78AB320A574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59 Chcem len tvojím, Pa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len tvojím,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čne tvojím by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vot čistý, svät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ko ty chcem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riechu ráč ma zbav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archy jeho pú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rdce iba v teb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že spočinú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be, Spasiteľ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be patriť chc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boji viery s teb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pečný byť sm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i pevná skal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úkryt istot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rúcne k tebe ľnúť chce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ušou dieťať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tebou, drahý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vo sveta tmá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cieľu kráčam smel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desí ma stra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ou veľkou lásk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ma sprevádza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m že v dome Otc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 mňa miesto máš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4-11T16:53:17Z</dcterms:modified>
  <cp:revision>21</cp:revision>
  <dc:subject/>
  <dc:title>Je veľký náš Pán, on slávy je Kráľ Nech do všetkých strán  spev vrúcnych znie chvál.</dc:title>
</cp:coreProperties>
</file>